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0CD-EA2B-4F20-969A-EFAC7CCC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05A-ED61-484F-83E2-6D05968A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633-759C-4BB2-89A2-14F19E5D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FB2-EFFA-4932-BBC8-64B6C387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D2B3-7BDF-43B2-8A3F-39AC3E4C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3C8-0961-4CA5-AAB8-51448474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F0A-7F22-4794-9DF2-F38E1428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1A65-7BC1-4905-8AE3-851CA9CB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54A-F6B5-4357-8604-59B0F3AA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C70-7F6D-4D17-906D-DA032EE9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24A-9B2E-49B4-91E7-60B54C30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5C6-FC12-414D-9F92-CBA3892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5DC2-87F4-4FCE-9F0A-E4ED0EA7C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6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lischer Name:  _________   Deutscher Name:  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ist los? Warum?  Circle the mistake and write why it is wrong.  If there is no mistake, write nichts.  There is only one mistake p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Meiner Tiger ist orange.  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Die Känguru hüpft.  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Ich suche für mein Pony.  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ch habe seinen Hund.  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Ist der Junge den Peter?  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proper der oder ein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o ist m_____________ Flie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Du hast e_____________ Fliege als Haust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Ja.  Natürlich.  Ich habe auch e_________ H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D__________ Hund hat Flö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S______________ Mutter ist okay dam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Sie hat k____________ Ahnung (f), dass er Flöhe 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 Ach so.  Und d_________ Bruder?  Hat er e________ Hausti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 Nein.  Er hat nur e____________ Teddy (m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 Das ist unfair.  M_____________ Schwester hat e____________ Kängu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 have a dog. 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She hates the r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The horse is br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I like the pengu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Her brother is (called) Bo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The crocodile lives in Alab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9:20:05Z</dcterms:created>
  <dc:creator>udsd</dc:creator>
  <dc:description/>
  <dc:language>en-US</dc:language>
  <cp:lastModifiedBy>udsd</cp:lastModifiedBy>
  <dcterms:modified xsi:type="dcterms:W3CDTF">2011-10-04T19:41:28Z</dcterms:modified>
  <cp:revision>2</cp:revision>
  <dc:subject/>
  <dc:title>Slide 1</dc:title>
</cp:coreProperties>
</file>